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151-1C4F-484F-919D-2AC01D00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D00-2C16-4CB1-8CC6-277E72A0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574-A9CE-45E0-9593-98791898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F91-592F-4B76-8A3A-AA0B022B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5E9-0B8D-4F20-839E-8BB4F88D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C8F-D0F0-4FA8-9542-00F5E7A3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9CC-AF62-4D60-9E52-BC99E7D6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175-4197-4CF6-9DD7-50C471AA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8AD-36E4-4346-B02F-2207858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D4C-9EEC-4775-A606-73645D72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7BA-E821-46CC-A7E7-F3A37394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40B-5E0B-4C02-82DE-990B4AA8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7742-8A1E-410C-9CC5-26CF2DB8122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064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 any given day we can play many different roles in society – eg. A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parent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can drive their kids to school and then go to work and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each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ir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ules, Norm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alues – Society carries with it a system of values.  A particular set of values are assigned to each role.  The practitioners of these roles are expected to accept and internalize these valu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orms – These are rules set out for a particular role that are considered standard behaviour (eg. Catholic Priests are expected to be celibat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ules, Norm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ules – These are developed by cultures based on their system of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ev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y behaviour that is different from the societal norm.  It is deviant because we, as a society, do not accept i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iance can range from simple eccentricities to behaviour that harms society or is considered disreput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habil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 has formed a strong link with the justice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fundamental component of modern imprisonment is rehabilitation, or trying to re-educate and resocialize inmates so that they can grow to accept society’s values and n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921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176040"/>
            <a:ext cx="975348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42920" y="351000"/>
            <a:ext cx="683100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775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is Soci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ocial science discipline that looks at the development and structure of human society (institutions) and 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ciology is the study of social life, social change, and the social causes and consequences of human behaviour. (American Sociological Associ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ciology Subject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ociologists investigate the structure of groups, organizations, and societies, and how people interact within these contex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ll human behavior is social so the subject matter of sociology ranges from the intimate family to the hostile mob; from organized crime to religious cults; from the divisions of race, gender and social class to the shared beliefs of a common culture; and from the sociology of work to the sociology of sports. (AS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Roles we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e all play certain roles in our society – Social Scientists refer to this as 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stat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atus is the term used to describe our position within an institu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g. Fellowes High School – There are many positions at Fellowes ranging from teacher, vice-principal, guidance counselor, principal, student and superintendent – 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Can you put them in order on the hierarc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Hierarchy is the ranking system used in any particular environment based on authority ot pow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ch position or role requires a certain type of expertise which is valued by socie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 order to distinguish between these roles people are expected to dress and act in a certain wa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43:34Z</dcterms:created>
  <dc:creator>Jason</dc:creator>
  <dc:description/>
  <dc:language>en-US</dc:language>
  <cp:lastModifiedBy>Jason</cp:lastModifiedBy>
  <dcterms:modified xsi:type="dcterms:W3CDTF">2010-09-15T16:30:55Z</dcterms:modified>
  <cp:revision>5</cp:revision>
  <dc:subject/>
  <dc:title>Sociology</dc:title>
</cp:coreProperties>
</file>